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09F2-A2DE-4A12-9216-22EB710D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213-429F-462E-BF34-7F132DFE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EB3-A1D3-4A7D-8452-FE367E99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9F6-31DE-4B54-9207-04F7D599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F3B-6B1E-42F9-B142-36786335F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C7C-9DE2-4902-AA80-1C2D62065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E16A-DE34-4E48-857A-1C3261AA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836F-2C36-4DDC-8BBA-C872FC5D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8A75-5505-40C6-8FFF-5C7AF4AF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D84-0115-438D-8CD4-653F1B3F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205-2A00-4DAC-A24D-59C848E5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E8C-53E8-40FF-B18E-8A742BB1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8E8-238E-490E-9C12-B512D364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87B-4AA2-43EC-959B-58244E20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93E0-EDB9-43AF-8EA2-E5871E54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F884-CB2E-4B19-AE04-78D5DA07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D2B-F7C5-42E0-AA0D-A11B1B1D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5B52-1FC6-44BE-AE89-E2E7B385E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5CE-D91C-4DEA-8481-98798AE68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E72-F887-425D-BCCE-96DAD13A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97D-55DE-4A73-A908-4B3BC41C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6AE-121C-4A7E-AA39-8EEA2B672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C06A-60D5-4CD1-BA87-58BBD2D6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1D3-5888-4A2A-A294-58834430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AACB-7F9F-4BC0-BD53-DEBE90CA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DC2-AAEF-4FC1-A0EE-E8A0CD3C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E6F-521D-496D-AD9D-6FABF31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1AE-16A8-4CFC-B1C8-DBD8D7D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517-A41A-4292-8BD3-D68236FE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82E-52DE-4BDA-A34A-F58EA21F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A2D6-6797-459A-984D-3A006AA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7909-C04A-4BC2-A6CD-4B6CCC9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F4B-1FBA-4E4F-863F-411E0531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F61-787B-4E11-BD8D-886A5968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277E-855E-4609-8DC3-9A7380C8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0FD4-2C12-42DE-BF90-9276130B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82A-6150-48F3-B04F-DFCE6F85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23A-B07B-4DBB-8E1D-5825362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AEB-F045-4DF0-B4A1-90D895F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3D3-4539-4C93-86EA-90103D1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3C64-463B-4CCF-8500-FC99146F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C78-130F-4EA3-BD35-DE7B2DDC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D27C-8DC7-4DA0-BFA8-4BA2E5C5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080F-7C2D-41BF-AAE2-BC51B8C1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155A-AA41-4BD9-85FF-315547E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8B6A-0262-4735-9F5C-57B4C7F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25E8-4BAB-499B-BEED-C07C103A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D7A-60FB-40E7-A344-72022419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07DE-D5CC-46A9-A7A3-3EDB2EC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524F-6CDF-487B-9C97-DE1D2CF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9F77-2FA0-4C76-A6BD-2DA31A1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253F-6D09-42BA-830A-2724910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6F44-B725-4A5E-A06B-28303FF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0637-2565-40D1-8904-3ADF89A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63A4-E998-44C9-A731-9B3C4577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BC0-6528-4A1B-95D2-F468913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ED2-E1CE-470A-8667-106B34F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9D6-F1AC-40CF-BCFF-A9B8D43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786-ED2C-4285-8B5C-CCEC3D9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D71-EEDA-47F3-8DC0-9C112344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15B-75F3-4194-8E37-13BCB39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981720" y="1219320"/>
              <a:ext cx="72417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A39-8B3B-4B3A-8953-721B9862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0E3C-FE1E-4B01-B278-342A636EC8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91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981720" y="3352320"/>
              <a:ext cx="72417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94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66C-8143-4656-A950-4E6C43477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built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built  great roads to travel on and aqueducts to bring water into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also built great stadiums and amphitheaters for the entertainment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also developed the use of the 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first emperor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avian is Rome’s first empe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took the name Augustus Cae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is rule, Rome expanded and enjoyed a period of peace.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9" descr="augustus-caesar"/>
          <p:cNvPicPr/>
          <p:nvPr/>
        </p:nvPicPr>
        <p:blipFill>
          <a:blip r:embed="rId2"/>
          <a:stretch/>
        </p:blipFill>
        <p:spPr>
          <a:xfrm>
            <a:off x="5187960" y="182880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lived in peace for 20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called the Pax Romana, the Peace of Rome. Unfortunately for Rome, the peace would not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grew weak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e grew weak because it had grown too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reason Rome grew weak is that they had tax problems and couldn’t raise enough money to keep the roads from crumb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also a problem in the empire. With so many slaves, the people did not need to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problems that helped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downfall were corrupt generals, civil wars, and economic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Barbarians at the gates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the people who destroyed Rome Barbar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anyone who didn’t speak Greek, even though the word barbarian actually means uncivilized, lacking in culture and vio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fell in 476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empire would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Byzantium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Roman Empire became known as the Byzantine Empire or Byzan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byzantine"/>
          <p:cNvPicPr/>
          <p:nvPr/>
        </p:nvPicPr>
        <p:blipFill>
          <a:blip r:embed="rId2"/>
          <a:stretch/>
        </p:blipFill>
        <p:spPr>
          <a:xfrm>
            <a:off x="914400" y="2819520"/>
            <a:ext cx="746748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was named for emperor Constan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e was important because  he legalized Christianity in th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Constantine’s rule, Christianity spread grea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moved the capital of the empire from Rome to Constantinop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onstantinoplemaplarge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grow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inople became a leading center of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helped the Byzantine Empire grow r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300px-Roerich_slavs"/>
          <p:cNvPicPr/>
          <p:nvPr/>
        </p:nvPicPr>
        <p:blipFill>
          <a:blip r:embed="rId2"/>
          <a:stretch/>
        </p:blipFill>
        <p:spPr>
          <a:xfrm>
            <a:off x="3886200" y="2514600"/>
            <a:ext cx="4724280" cy="3575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Justinia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was the greatest of the Byzantine empe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made many changes in the law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laws were called The Code of Justin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also built many churches throughout the emp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9" descr="Justinian"/>
          <p:cNvPicPr/>
          <p:nvPr/>
        </p:nvPicPr>
        <p:blipFill>
          <a:blip r:embed="rId2"/>
          <a:stretch/>
        </p:blipFill>
        <p:spPr>
          <a:xfrm>
            <a:off x="4948200" y="18288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Disagreements between east and wes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people in the Byzantine Empire were Christian, but the people in the west and the people in the east disagreed about how to worship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d to a split in the Catholic Church. It was called a sch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ism is a split. The Roman Catholic Church had a schism, splitting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romanraod2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Roman-Aqueduct"/>
          <p:cNvPicPr/>
          <p:nvPr/>
        </p:nvPicPr>
        <p:blipFill>
          <a:blip r:embed="rId2"/>
          <a:stretch/>
        </p:blipFill>
        <p:spPr>
          <a:xfrm>
            <a:off x="45720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oliseum"/>
          <p:cNvPicPr/>
          <p:nvPr/>
        </p:nvPicPr>
        <p:blipFill>
          <a:blip r:embed="rId3"/>
          <a:stretch/>
        </p:blipFill>
        <p:spPr>
          <a:xfrm>
            <a:off x="304920" y="3429000"/>
            <a:ext cx="3809880" cy="286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Arch"/>
          <p:cNvPicPr/>
          <p:nvPr/>
        </p:nvPicPr>
        <p:blipFill>
          <a:blip r:embed="rId4"/>
          <a:stretch/>
        </p:blipFill>
        <p:spPr>
          <a:xfrm>
            <a:off x="4800600" y="35053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wo church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east was called Eastern Orthod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Patriarch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Constantinople was called the Patri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092560" y="1828800"/>
            <a:ext cx="2921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op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Rome was called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jpii2"/>
          <p:cNvPicPr/>
          <p:nvPr/>
        </p:nvPicPr>
        <p:blipFill>
          <a:blip r:embed="rId2"/>
          <a:stretch/>
        </p:blipFill>
        <p:spPr>
          <a:xfrm>
            <a:off x="4114800" y="2724120"/>
            <a:ext cx="4343400" cy="308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is captur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it in the church weakened the Byzantine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453, the Ottoman Turks captured Constantinople and the Byzantine Empire came to an 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Byzantine Empire preserves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yzantine Empire preserved the art and literature of the Greeks and Rom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e Byzantine, the world may have lost great treasures of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was a Republic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ublic is a form of government where people elect represent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 has a representative government. We learned about this for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Senat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ate led the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ade the laws for the re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women got shaft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might have had representative government, but not all people were repres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women were not allowed to v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Citizenship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had a strong sense of citizensh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citizens were protected by Rome, but had a duty to participate in society and to make i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ilosophy that preached good citizenship was called Stoic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icism stressed the importance of being a good citiz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Law and Righ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laws stressed fairness and common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equal treatment under the law in Rome and people were considered innocent until proved guilty when accused of a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ook much of our syste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Ar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aics were popular in Rome. A mosaic is a picture made out of small, colored tiles or pieces of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mans also made great statues that looked like the real thing, even though they were made from st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4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44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45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772000" cy="32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46" descr=""/>
          <p:cNvPicPr/>
          <p:nvPr/>
        </p:nvPicPr>
        <p:blipFill>
          <a:blip r:embed="rId4"/>
          <a:stretch/>
        </p:blipFill>
        <p:spPr>
          <a:xfrm>
            <a:off x="3962520" y="3048120"/>
            <a:ext cx="472428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31:18Z</dcterms:created>
  <dc:creator>Jeff Kash</dc:creator>
  <dc:description/>
  <cp:keywords/>
  <dc:language>en-US</dc:language>
  <cp:lastModifiedBy>San Diego City Schools</cp:lastModifiedBy>
  <dcterms:modified xsi:type="dcterms:W3CDTF">2010-09-22T23:39:43Z</dcterms:modified>
  <cp:revision>28</cp:revision>
  <dc:subject/>
  <dc:title>PowerPoint Presentation  -  The Rise and Fall of the Roman Empire</dc:title>
</cp:coreProperties>
</file>